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BE264-443A-4E83-9A70-271F361AF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418B8-017B-4144-A0C1-697E1F6C2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C63B2-1048-4BC3-A13A-00C16D6E2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E7FA8-D113-4F69-BAA9-87A3CD58E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1DE25-778A-4992-9AD7-2A46737C7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37639-4100-4848-9B82-B6111605D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2EC2-103D-4DF5-8C4D-667473348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9400E-003F-4EEA-AC26-2A34879A9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CB5F4-C678-446D-8040-4607BA7C2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09AEF-1ED1-406B-A8BD-55C0F6A9E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45DF6-CC76-40BB-9A4C-375CD7F2D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8245C-4E2F-49BB-8246-0370D373C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D1E38F54-2421-455D-9109-BEA226009B0B}" type="datetime">
              <a:rPr b="0" lang="en-US" sz="5500" spc="-1" strike="noStrike">
                <a:solidFill>
                  <a:srgbClr val="898989"/>
                </a:solidFill>
                <a:latin typeface="Calibri"/>
              </a:rPr>
              <a:t>07/30/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229AD026-6EF0-494D-B754-03144B1AACAE}"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